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8D5-6A2B-4DC0-95D3-8C1AEB89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447-012F-4C65-97FC-FCDE8497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CD5-8F2C-4CD7-A98A-7D2D17AE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F08-E191-4A65-809D-2051C96E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5E51-7DA6-4CA6-8E03-8B7ED759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317D-2418-49F2-8B19-47D3FAE3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BD6D-9251-4397-A406-A1AE1833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F804-B863-49CA-88D4-93D9432A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603C-08BA-4101-A799-34D7F687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DF8D-5DBE-4669-82D2-9C58907C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8305-D74C-4C12-8C47-68EBF2A4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4B3-375B-482E-B634-97A183AD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9A00-E792-4DEE-BCF0-B7B1A381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6B02-78EB-437B-AABD-05ED20A5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C138-09DD-47DE-A7A2-55D5A9E5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8859-90AA-4D60-88D7-933A50ED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45B3-8891-43FB-93E8-30EAD040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60B-6BB3-45E1-98EF-AA9C4517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45F-FF24-4A5A-9DA9-F99DE1E3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E4B-3426-4933-87F8-B3122808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CEB-04B7-4F19-A9B7-304BD13C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880-EBD6-4F75-BE2B-D5FCA3CC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979-D052-44A3-8811-10020A74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4CE-79BF-441C-B887-69208855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709B-A912-4EE0-9073-A3F456494BC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BC53-11F4-47A6-9EA5-B18E426D5F5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Verdana"/>
              </a:rPr>
              <a:t>Me llamo ______ Clase 8im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Verdana"/>
              </a:rPr>
              <a:t>la fecha es el1 5 de noviembre del 20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Proposito # 17: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¿Fuiste al cine o el museo durante el veran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ribe 2 oraciones originales con cada verbo en el preteri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 (to g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der (to lose/mi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 (to gi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lir (to go ou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 (to b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4114800" y="1676160"/>
            <a:ext cx="13716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1066680"/>
            <a:ext cx="3581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The movie theater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13372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Box office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1219320"/>
            <a:ext cx="3048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The movie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971800"/>
            <a:ext cx="3047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3657600"/>
            <a:ext cx="3047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05120" y="1066680"/>
            <a:ext cx="3047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The museum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1752480"/>
            <a:ext cx="3048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The painting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4191120"/>
            <a:ext cx="2438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The bron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statue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952880"/>
            <a:ext cx="388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5562720"/>
            <a:ext cx="4419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5105520"/>
            <a:ext cx="3886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343400" y="2209680"/>
            <a:ext cx="3048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3200400"/>
            <a:ext cx="3047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114800"/>
            <a:ext cx="3048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5105520"/>
            <a:ext cx="3047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267080" y="2362320"/>
            <a:ext cx="3886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4648320"/>
            <a:ext cx="3886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r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Vocabulario en Viv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a la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chapter 8: Vocabulario en Viv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ctividad 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. 27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ctividad 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. 27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3763800"/>
            <a:ext cx="8244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Tarea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4:22:14Z</dcterms:created>
  <dc:creator>Helen Zumaeta</dc:creator>
  <dc:description/>
  <dc:language>en-US</dc:language>
  <cp:lastModifiedBy>Helen Zumaeta</cp:lastModifiedBy>
  <dcterms:modified xsi:type="dcterms:W3CDTF">2012-11-16T19:43:31Z</dcterms:modified>
  <cp:revision>2</cp:revision>
  <dc:subject/>
  <dc:title>Me llamo ______ Clase 8im la fecha es el1 5 de noviembre del 2012</dc:title>
</cp:coreProperties>
</file>